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020-0BCF-44A7-829F-67A9F09C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8F4-47A4-497C-B135-C51B1703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BEF-59B8-4122-B312-9B4EFB7E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EDA-9532-4B2C-8158-372EC56D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FABC-66EA-4B09-BD52-363CD36E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8CEB-E5EE-41B1-ADC2-CC700FD8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A651-E35A-42E1-9EA1-98485AC1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0721-F6CE-4317-A6A9-13DD6A0D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ACC3-0C6D-4E65-A120-013A5446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1095-34B7-4000-9841-86315374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D940-349A-4F73-8A43-68174142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10D-F723-4BD1-8B9C-A19781B3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B9C4-CC86-46D4-8DE9-EE97496C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3F05-95C5-4DF4-8074-937A737D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F3D8-62C1-4B1B-A7DC-F3B90CF1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90F8-1B3C-4F5C-933A-114B97B9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3937-ABCD-468A-8C4E-8D3AC627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630-9C70-4406-BC78-D226B68B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D66-7A43-4DBA-8C21-1BF47496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9F4-D0CC-40F7-B264-1E4FF7C4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F75-EB43-4B6B-A99C-6AC5E272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EF5-9726-4739-8275-C2231B10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451-9E52-4510-A8DC-E81931E0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D62-9C83-4C35-85F8-F5C5245B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25C4-55ED-49E7-B174-CD675DA6ECDC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5E84-E23B-4254-AE6D-AF23313DC091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wm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6.wmf"/><Relationship Id="rId4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85920" y="2168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KĄTY. 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RODZAJE KĄTÓW 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ZE WZGLĘDU NA POŁOŻE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Y PRZYLEG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587052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+ 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= 18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116064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rysujmy na prostej n kąt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ółpełn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Jak już zapewne wiesz, jego miara wynosi 180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00320" y="1719360"/>
            <a:ext cx="692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tej samej prostej oznacz dowolny punkt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narysuj od niego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ółprostą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133720"/>
            <a:ext cx="68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Łatwo można zauważyć, iż półprosta podzieliła kąt półpełny na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dwa kąt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na rysunku oznaczone literami greckiego alfabetu - </a:t>
            </a:r>
            <a:r>
              <a:rPr b="1" lang="en-US" sz="1400" spc="-1" strike="noStrike">
                <a:solidFill>
                  <a:srgbClr val="6600ff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400" spc="-1" strike="noStrike">
                <a:solidFill>
                  <a:srgbClr val="6600ff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5159520"/>
            <a:ext cx="72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e typy kątów nazywam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zyległy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mówimy, że ką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jes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zyległ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 kąta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lub na odwrót – ką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jes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zyległ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 kąta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Między tymi kątami zawsze zachodzi związe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132000" y="4525920"/>
          <a:ext cx="3600720" cy="5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4525920"/>
                    <a:ext cx="360072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40200" y="4487760"/>
          <a:ext cx="127080" cy="1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40200" y="448776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716360" y="4545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859280" y="2825640"/>
          <a:ext cx="1117800" cy="17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2825640"/>
                    <a:ext cx="11178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605480" y="4255920"/>
          <a:ext cx="614160" cy="32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05480" y="4255920"/>
                    <a:ext cx="6141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003640" y="4329000"/>
          <a:ext cx="123840" cy="23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3640" y="4329000"/>
                    <a:ext cx="1238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788000" y="4292640"/>
          <a:ext cx="112680" cy="23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88000" y="4292640"/>
                    <a:ext cx="11268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43640" y="431172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Y WIERZCHOŁKOW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587052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= 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116064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steś już zaznajomiony z kątami przyległymi, aby zapoznać się z kolejnym rodzajem kątów wykorzystajmy poprzedni rysunek, obrazujący kąty przyległ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1687680"/>
            <a:ext cx="69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zedłuż półprostą o początku w punkcie A i oznacz powstałą w ten sposób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rostą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205000"/>
            <a:ext cx="70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 ten sposób dwie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ros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rzecinające się w punkcie A, stworzyły 4 kąty. Jak można dostrzec, kąty leżące na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rzeciwległyc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wierzchołkach mają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rów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mi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5159520"/>
            <a:ext cx="72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e typy kątów nazywam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ierzchołkowy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Aby lepiej je sobie zobrazować zauważ, iż kąty wierzchołkowe to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dwie pary kątów przyległyc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z tą różnicą, że zamiast półprostej (ograniczonej punktem A) mamy prostą 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59280" y="3984480"/>
          <a:ext cx="3600360" cy="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3984480"/>
                    <a:ext cx="3600360" cy="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767120" y="3946680"/>
          <a:ext cx="127080" cy="1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7120" y="394668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688000" y="4292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32400" y="3716280"/>
          <a:ext cx="61416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32400" y="3716280"/>
                    <a:ext cx="6141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932360" y="3789360"/>
          <a:ext cx="123840" cy="23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3789360"/>
                    <a:ext cx="1238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680000" y="3789360"/>
          <a:ext cx="112680" cy="23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0000" y="3789360"/>
                    <a:ext cx="11268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370560" y="377208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62308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= 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824360" y="3143160"/>
          <a:ext cx="560520" cy="862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24360" y="3143160"/>
                    <a:ext cx="56052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299120" y="3968640"/>
          <a:ext cx="560160" cy="862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99120" y="3968640"/>
                    <a:ext cx="56016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535640" y="4005360"/>
          <a:ext cx="614160" cy="325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35640" y="4005360"/>
                    <a:ext cx="6141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570560" y="3997440"/>
          <a:ext cx="757080" cy="511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0560" y="3997440"/>
                    <a:ext cx="757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319640" y="3473280"/>
          <a:ext cx="792000" cy="568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19640" y="3473280"/>
                    <a:ext cx="79200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863960" y="4057560"/>
          <a:ext cx="103320" cy="235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63960" y="4057560"/>
                    <a:ext cx="10332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626000" y="3968640"/>
          <a:ext cx="90360" cy="235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626000" y="3968640"/>
                    <a:ext cx="9036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111640" y="303372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896000" y="4041720"/>
            <a:ext cx="7920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Y ODPOWIADAJĄ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280" y="873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1160640"/>
            <a:ext cx="712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znając następne rodzaje kątów, skorzystamy z rysunku kątów przyległ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1503360"/>
            <a:ext cx="69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rysuj prostą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równoległą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 prostej n (oznaczmy ją literą „m”), a półprostą przekształć w prostą 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023920"/>
            <a:ext cx="70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nkt przecięcia prostej m i prostej k oznaczmy literą „B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362560"/>
            <a:ext cx="72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e typy kątów nazywam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dpowiadający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Pamiętaj, aby kąty można było nazwać odpowiadającymi, dwie proste (w naszym przypadku m i n)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MUSZĄ być równoległ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2349360"/>
            <a:ext cx="705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k łatwo możemy zauważyć z rysunku, kąty powstałe w wyniku przecięcia się prostych n i k w punkcie A mają taką samą miarę, co kąty powstałe w wyniku przecięcia się prostej m z prostą k w punkcie B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276720" y="4686480"/>
          <a:ext cx="2376360" cy="5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686480"/>
                    <a:ext cx="237636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157640" y="4648320"/>
          <a:ext cx="127080" cy="1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7640" y="464832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105440" y="4699080"/>
            <a:ext cx="4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29080" y="3589200"/>
          <a:ext cx="61452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9080" y="3589200"/>
                    <a:ext cx="6145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321080" y="4489560"/>
          <a:ext cx="123840" cy="23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21080" y="4489560"/>
                    <a:ext cx="1238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068720" y="4470480"/>
          <a:ext cx="112680" cy="23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68720" y="4470480"/>
                    <a:ext cx="11268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402160" y="447372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76720" y="3876840"/>
          <a:ext cx="2376360" cy="55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3876840"/>
                    <a:ext cx="237636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213080" y="3336840"/>
          <a:ext cx="889200" cy="138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13080" y="3336840"/>
                    <a:ext cx="8892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573440" y="3660840"/>
          <a:ext cx="113040" cy="23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3440" y="3660840"/>
                    <a:ext cx="1130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826160" y="3678120"/>
          <a:ext cx="123840" cy="235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26160" y="3678120"/>
                    <a:ext cx="1238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925800" y="4416480"/>
          <a:ext cx="614520" cy="32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25800" y="4416480"/>
                    <a:ext cx="6145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662360" y="3841920"/>
          <a:ext cx="127080" cy="128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62360" y="384192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889440" y="4705200"/>
          <a:ext cx="349200" cy="524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89440" y="4705200"/>
                    <a:ext cx="3492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645080" y="387684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5800" y="3664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04000" y="386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 ||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59280" y="3176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Y NAPRZEMIANLEGŁ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6280" y="873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052640"/>
            <a:ext cx="712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zy tym rodzaju kątów skorzystamy z rysunku kątów odpowiadając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1376280"/>
            <a:ext cx="69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rysuj kąty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wierzchołkow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 tych, które już są oznaczone na rysun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1700280"/>
            <a:ext cx="705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uważ, że kąty </a:t>
            </a:r>
            <a:r>
              <a:rPr b="1" lang="en-US" sz="1400" spc="-1" strike="noStrike">
                <a:solidFill>
                  <a:srgbClr val="6600ff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400" spc="-1" strike="noStrike">
                <a:solidFill>
                  <a:srgbClr val="6600ff"/>
                </a:solidFill>
                <a:latin typeface="Symbol"/>
                <a:ea typeface="Symbol"/>
              </a:rPr>
              <a:t>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które zostały dorysowane są zarówno wierzchołkowe, jak i odpowiadające, więc kąt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żący na prostej n ma taką samą miarę jak kąt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żący na prostej 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5362560"/>
            <a:ext cx="72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e typy kątów nazywam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aprzemianległy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Pamiętaj, aby kąty można było nazwać naprzemianległymi, dwie proste (w naszym przypadku m i n)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MUSZĄ być równoległ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276720" y="4686480"/>
          <a:ext cx="2376360" cy="5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686480"/>
                    <a:ext cx="237636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157640" y="4648320"/>
          <a:ext cx="127080" cy="1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7640" y="464832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680000" y="472428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321080" y="4489560"/>
          <a:ext cx="123840" cy="23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4489560"/>
                    <a:ext cx="1238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068720" y="4470480"/>
          <a:ext cx="112680" cy="23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8720" y="4470480"/>
                    <a:ext cx="11268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402160" y="447372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276720" y="3876840"/>
          <a:ext cx="2376360" cy="5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3876840"/>
                    <a:ext cx="237636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211640" y="3336840"/>
          <a:ext cx="888840" cy="13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1640" y="3336840"/>
                    <a:ext cx="88884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573440" y="3660840"/>
          <a:ext cx="113040" cy="23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3440" y="3660840"/>
                    <a:ext cx="1130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826160" y="3678120"/>
          <a:ext cx="123840" cy="235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26160" y="3678120"/>
                    <a:ext cx="1238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62360" y="3841920"/>
          <a:ext cx="127080" cy="128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62360" y="384192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889440" y="4705200"/>
          <a:ext cx="349200" cy="524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9440" y="4705200"/>
                    <a:ext cx="3492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111640" y="392580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5800" y="3664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04000" y="386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 ||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3176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710160" y="4689360"/>
          <a:ext cx="393480" cy="47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10160" y="4689360"/>
                    <a:ext cx="3934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859280" y="3456000"/>
          <a:ext cx="393840" cy="477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59280" y="3456000"/>
                    <a:ext cx="3938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981600" y="4689360"/>
          <a:ext cx="698400" cy="473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981600" y="4689360"/>
                    <a:ext cx="698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284720" y="3460680"/>
          <a:ext cx="698400" cy="473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284720" y="3460680"/>
                    <a:ext cx="698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295880" y="3897360"/>
          <a:ext cx="276120" cy="379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295880" y="3897360"/>
                    <a:ext cx="276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392720" y="4344840"/>
          <a:ext cx="276120" cy="379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392720" y="4344840"/>
                    <a:ext cx="276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535640" y="3897360"/>
          <a:ext cx="588960" cy="399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535640" y="3897360"/>
                    <a:ext cx="5889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851280" y="4324320"/>
          <a:ext cx="588960" cy="399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851280" y="4324320"/>
                    <a:ext cx="5889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52920" y="3841920"/>
          <a:ext cx="90360" cy="2347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552920" y="3841920"/>
                    <a:ext cx="9036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032360" y="4670280"/>
          <a:ext cx="90360" cy="235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032360" y="4670280"/>
                    <a:ext cx="9036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788000" y="3933720"/>
          <a:ext cx="102960" cy="235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788000" y="3933720"/>
                    <a:ext cx="10296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253040" y="4741920"/>
          <a:ext cx="102960" cy="2347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253040" y="4741920"/>
                    <a:ext cx="10296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 flipH="1" flipV="1">
            <a:off x="4319280" y="4761000"/>
            <a:ext cx="43164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4788000" y="3933720"/>
            <a:ext cx="39672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2457360"/>
            <a:ext cx="688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obnie wygląda sytuacja z kątem rozwartym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akże leżącym na prostej n – miara jego kąta będzie taka sama, jak kąta wierzchołkowego do jego kąta odpowiadającego, czyli w naszym przypadku – kąta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Na rysunku widać wszystkie pary takich ką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2:07:11Z</dcterms:modified>
  <cp:revision>25</cp:revision>
  <dc:subject/>
  <dc:title>Slajd 1</dc:title>
</cp:coreProperties>
</file>